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C59DC-5092-48D1-BC9C-85136405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08C1F-4F45-4D5E-97AD-17B0191A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AAD62-951B-4D64-BD14-EB0468C8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3DDA-DF11-4E4D-A0DB-70355FBF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8041-812B-4114-9045-7DBDC50E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5DD6-FCCB-4733-A5D6-3E7CAEA9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45F4-820D-4C4E-9B5C-7008B684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9EC3-1483-446F-A694-8373DF99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C45B-BA34-473A-9A0E-DB8F07B2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0F3D-3814-40B3-ABF0-9322E863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FAF4-87EF-4B86-B48D-DC816B09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1A87D-0FE9-4EB6-B4E3-B7B04909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B94C-19EA-4363-BFDE-39721816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07E8-8E5B-44AC-BD46-2F0B9E90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AF8D-8A8F-4ED0-B4DA-E02CCE8F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1A08-D7FB-43A3-829A-CE5C64FB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3EA8-D442-4635-9FCD-CA303596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5595D-E326-48A6-BFC1-C473F467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65235-F754-45E3-B06A-5A4500FF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A2E48-7A8F-4F48-984F-AAF369FD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E85CE-0CF4-4ED9-85EE-FD3A8173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F8330-D073-4050-9BF6-41ED82CD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5F57A-7231-4D1F-8048-3D99A999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74F16-EEF9-46E9-8173-B39FD6B2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2D19-D60D-4E29-8566-606446686A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8C6E-5D6C-4A33-AD5F-510D35AA2D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40516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Chapter 6 Review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tober 8,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9) Describe the guidelines discussed in the text for analyzing your audience. 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y attention to the sit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audience traits, states, and goals in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forget about audience demograph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1) Explain the connections between age and persuasion strategies, as well as age and persuasibility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uasion strategies get more sophisticates as the persuader gets ol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 are more persuad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factor decrease children’s vulnerability: family influence and getting ol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der people can be more vulnerable, or they may be set in their 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-543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2) Describe arguments for and against educating children about potential molesters.  Include at least three of the eleven lures discussed in the chapter in your response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ance 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ority 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fection/love 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bery 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/fame 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ency 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un and games 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ic and rituals 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nography 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o 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bs 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-543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3) Discuss the connections between gender and persuasion, as well as gender and persuasibility.  Be sure to use information from the chapter to support your answer. 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 are more likely to be verbally aggres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on this topic has changed over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4) Explain individualism-collectivism as a dimension of cultural variability.  Include examples to illustrate your answer. 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vism: values harmony, concern for others, the goals of the group over the goals of the individ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ism: independence, goal of the individual over the goal of the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5) Why is intelligence a double-edged sword when it comes to persuasion?  Explain using information from the chapter. 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easier for intelligent people to understand the messag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it is also easier for them to critically evaluate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6) What level of self-esteem is most persuadable?  Why? Explain why other levels of self esteem are less persuadable. 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self-esteem: more likely to yield to the message, but may be too concerned about appearance to be recep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self-esteem: more likely to receive the message, less likely to change attitudes and behavi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7) Describe self-monitoring and its relationship to persuasibility. 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self-monitor: less sensitive to social c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self-monitors are susceptible to “image based” advertising, more likely to buy name br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543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8) Explain social judgement theory.  Be sure to include explanations for the following terms in your answer: anchor, latitude of acceptance, latitude of noncommitment, and latitude of rejection. 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preferred position is called the anch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itude of acceptance: other acceptable pos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itude of noncommitment: positions that are 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itude of rejection: unacceptable pos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5:26:39Z</dcterms:created>
  <dc:creator>nuhs</dc:creator>
  <dc:description/>
  <dc:language>en-US</dc:language>
  <cp:lastModifiedBy>nuhs</cp:lastModifiedBy>
  <dcterms:modified xsi:type="dcterms:W3CDTF">2007-10-08T16:01:26Z</dcterms:modified>
  <cp:revision>4</cp:revision>
  <dc:subject/>
  <dc:title>Chapter 6 Review</dc:title>
</cp:coreProperties>
</file>